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1DFE-88D7-48AC-BED9-AA60E97D3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7C8F-08A4-4536-BA1E-C6EB63246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B2AA-B094-42F8-8ED5-5F2121896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5A65-9F15-44F3-B96F-6C91AB023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F03C2-4DE4-4EE6-A5B8-F0D4D989A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14FAD-AF27-4578-A89F-F2D0B4372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58787-E04A-4AF8-9B76-F568DA69C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9AD2B-7528-415C-9E4B-5241924B2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61601-2AE6-44C2-91F6-9C56B4A56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FBA92-08E1-44D2-A11D-491312D62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68E60-9312-4088-A7CF-31015919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AB89-F7F8-4295-A6AE-A1A95BC66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13E9C-E8D3-4F52-9E3E-B817FC21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4B034-C81B-475B-9557-02056CB6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C178E-1FF2-4F3B-A946-6336E33FB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70920-4129-4C18-9E98-A93BDCE18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2EC1E-725B-438C-BEC0-F0A789985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C46E-CB50-4E30-944E-4901D50E2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0DC3-8E87-45D1-86F1-361DAF276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6B5F-E356-4BD6-8051-99A694EFC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5D89-3F1F-4630-96E9-0FB45A071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88FF-C5A9-4A3F-8CF3-6E607C8F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D0FC-0C0D-409C-B6A9-0166FF4E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6330-4AE2-4BC4-83A8-0EF638BC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89503-56A7-488E-8B65-1F45B512CDDC}" type="slidenum">
              <a:rPr b="0" lang="zh-CN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520CB-E42F-4FCF-AEBB-E821F2D033F3}" type="slidenum">
              <a:rPr b="0" lang="zh-CN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23619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9900"/>
                </a:solidFill>
                <a:latin typeface="Tahoma"/>
              </a:rPr>
              <a:t>优秀学子成功的十条秘诀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黑体"/>
                <a:ea typeface="黑体"/>
              </a:rPr>
              <a:t>9</a:t>
            </a:r>
            <a:r>
              <a:rPr b="1" lang="zh-CN" sz="4400" spc="-1" strike="noStrike">
                <a:solidFill>
                  <a:srgbClr val="ffcc66"/>
                </a:solidFill>
                <a:latin typeface="黑体"/>
                <a:ea typeface="黑体"/>
              </a:rPr>
              <a:t>、形成适合自己的学习方法</a:t>
            </a:r>
            <a:r>
              <a:rPr b="0" lang="zh-CN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勤是学海之舟，那么学习方法便是这舟上的帆，它可以帮助我们更快、更好地达到学习的彼岸。学习有很多共同的特征，但具体情况因人而异，每人都有一定的差异，要做到具体问题具体分析。根据自身情况找到适合自己的学习方法，在学习中认真总结，提高效率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黑体"/>
                <a:ea typeface="黑体"/>
              </a:rPr>
              <a:t>10</a:t>
            </a:r>
            <a:r>
              <a:rPr b="1" lang="zh-CN" sz="4400" spc="-1" strike="noStrike">
                <a:solidFill>
                  <a:srgbClr val="ffcc66"/>
                </a:solidFill>
                <a:latin typeface="黑体"/>
                <a:ea typeface="黑体"/>
              </a:rPr>
              <a:t>、拥有良好的习惯</a:t>
            </a:r>
            <a:r>
              <a:rPr b="0" lang="zh-CN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学习是一个重要的系统的过程，需要有良好的习惯来贯穿这个过程。我们所进行的“养成教育”实际上就是帮助同学们培养良好的学习、生活和行为习惯。习惯一旦养成，你的学习就变得规范而有章法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228600" y="2362320"/>
            <a:ext cx="4191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、人品好，有高度的责任感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、要有强烈的学习兴趣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3</a:t>
            </a:r>
            <a:r>
              <a:rPr b="1" lang="zh-CN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、要有明确的目标计划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4</a:t>
            </a:r>
            <a:r>
              <a:rPr b="1" lang="zh-CN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、勤奋刻苦，善于思考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5</a:t>
            </a:r>
            <a:r>
              <a:rPr b="1" lang="zh-CN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、有“舍我其谁”的必胜信心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1640" y="2362320"/>
            <a:ext cx="4343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6</a:t>
            </a:r>
            <a:r>
              <a:rPr b="1" lang="zh-CN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、认真领悟老师和父母的话</a:t>
            </a:r>
            <a:r>
              <a:rPr b="0" lang="zh-CN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7</a:t>
            </a:r>
            <a:r>
              <a:rPr b="1" lang="zh-CN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、善于向老师学习和同学们交流</a:t>
            </a:r>
            <a:r>
              <a:rPr b="0" lang="zh-CN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8</a:t>
            </a:r>
            <a:r>
              <a:rPr b="1" lang="zh-CN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、有稳定并善于调整的心态</a:t>
            </a:r>
            <a:r>
              <a:rPr b="0" lang="zh-CN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9</a:t>
            </a:r>
            <a:r>
              <a:rPr b="1" lang="zh-CN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、形成适合自己的学习方法</a:t>
            </a:r>
            <a:r>
              <a:rPr b="0" lang="zh-CN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10</a:t>
            </a:r>
            <a:r>
              <a:rPr b="1" lang="zh-CN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、拥有良好的习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6600"/>
                </a:solidFill>
                <a:latin typeface="Tahoma"/>
              </a:rPr>
              <a:t>优秀学子成功的十条秘诀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Tahoma"/>
              </a:rPr>
              <a:t>影响学生学习的十大坏习惯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2819160"/>
            <a:ext cx="42670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一</a:t>
            </a:r>
            <a:r>
              <a:rPr b="0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. </a:t>
            </a:r>
            <a:r>
              <a:rPr b="0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学习无计划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二</a:t>
            </a: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. </a:t>
            </a: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学习不定时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三</a:t>
            </a: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. </a:t>
            </a: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学习不定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四</a:t>
            </a: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. </a:t>
            </a: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学习马马虎虎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五</a:t>
            </a: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. </a:t>
            </a: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学习时一心二用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43040" y="274320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六</a:t>
            </a: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. </a:t>
            </a: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不懂的东西也不问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七</a:t>
            </a:r>
            <a:r>
              <a:rPr b="0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. </a:t>
            </a:r>
            <a:r>
              <a:rPr b="0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有错也不改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八</a:t>
            </a: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. </a:t>
            </a: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课前不预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九</a:t>
            </a: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. </a:t>
            </a: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上课注意力不集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十</a:t>
            </a: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. </a:t>
            </a: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不复习就做作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6600"/>
                </a:solidFill>
                <a:latin typeface="Tahoma"/>
              </a:rPr>
              <a:t>影响学生学习的十大坏习惯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习惯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是经过反复练习而形成的较为稳定的行为特征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好的习惯可以带来好的结果，而坏的习惯只能带来不好的结果，学习成绩不理想，就是由于有一些坏的习惯在作怪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一</a:t>
            </a:r>
            <a:r>
              <a:rPr b="0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. </a:t>
            </a:r>
            <a:r>
              <a:rPr b="0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学习无计划</a:t>
            </a:r>
            <a:r>
              <a:rPr b="0" lang="zh-CN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华文楷体"/>
              </a:rPr>
              <a:t>学习上不明白自己要干什么，该干什么，总是让老师和家长在后面推着屁股。凡事预则立、不预则废，成绩好的学生一般计划性都很强，学年有学年的总目标，学期有学期的规划，每周有每周的计划，每日有每日的任务。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二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. 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学习不定时</a:t>
            </a:r>
            <a:r>
              <a:rPr b="0" lang="zh-CN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学习时间不固定，每天必要的学习时间无法保证，学习时完全凭情绪，情绪好的时候可以学到深夜，情绪不好的时候，就什么都干不了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知识是日积月累起来的，人不可能在极短时间内把大量的学习内容输入到大脑里去，饥一顿饱一顿，三天打鱼两天晒网，只能是事倍功半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。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三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. 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学习不定量</a:t>
            </a:r>
            <a:r>
              <a:rPr b="0" lang="zh-CN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华文楷体"/>
              </a:rPr>
              <a:t>每天该完成的学习任务没有完成，喜欢搞集中复习、临考突击，每天该记忆的内容他欠帐，该做完的作业他欠帐，该复习的东西他还欠帐。要想较好地掌握知识，必须靠每日的知识积累，没有量的积累，便不会有质的飞跃。靠集中复习、临考突击学到的知识，不但数量少，而且质量差，经不起严格的检验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。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四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. 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学习马马虎虎</a:t>
            </a:r>
            <a:r>
              <a:rPr b="0" lang="zh-CN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上课时忘带课本和学习用具，抄写中明明是“’</a:t>
            </a: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b”</a:t>
            </a: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可他抄下来就变成了“</a:t>
            </a: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d”</a:t>
            </a: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，作业经常能以最快的速度完成但字迹潦草错误率高，考试时草稿纸上明明做对了可就是忘记誊写到试卷中。马虎在学生中间似乎已经成为一种通病，如果不加注意、不予重视，学习成绩必将会受到严重的影响。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五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. 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学习时一心二用</a:t>
            </a:r>
            <a:r>
              <a:rPr b="0" lang="zh-CN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上课时经常精神溜号，甚至做一些与学习毫不相干的事；自习课时常沉迷于空想，或者东翻西看，浪费时间；做作业或复习时，常做一些小动作，一边听歌一边写文章、算题，哪里说话哪搭茬儿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专心致志是学生必须养成的起码的学习习惯，一般人不可能同时高质量地做好两项或两项以上的事情，所谓“目不能两视而明，耳不能两听而聪”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黑体"/>
                <a:ea typeface="黑体"/>
              </a:rPr>
              <a:t>1</a:t>
            </a:r>
            <a:r>
              <a:rPr b="1" lang="zh-CN" sz="4400" spc="-1" strike="noStrike">
                <a:solidFill>
                  <a:srgbClr val="ffcc66"/>
                </a:solidFill>
                <a:latin typeface="黑体"/>
                <a:ea typeface="黑体"/>
              </a:rPr>
              <a:t>、人品好，有高度的责任感</a:t>
            </a:r>
            <a:r>
              <a:rPr b="0" lang="zh-CN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高中学生已经接受了十几年的教育，要有高尚的品质和独立的人格，还要有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坚定的信念，坚强的意志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，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坚忍不拔的毅力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以及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战胜困难的勇气和决心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。要有高度的责任感，做一个敢于负责的人，也就是要对自己、对父母、对学校和老师负责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六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. 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不懂的东西也不问</a:t>
            </a:r>
            <a:r>
              <a:rPr b="0" lang="zh-CN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楷体"/>
              </a:rPr>
              <a:t>过于害羞，虽然学习上有许多没有搞懂的问题，但也不敢问老师；太爱面子，喜欢打肿脸充胖子，不懂也装懂，不会的东西从来也不向别人请教；学习心里没数，自己都搞不清楚哪些地方懂，哪些地方不懂，似乎什么都懂一点，但又没有完全掌握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楷体"/>
              </a:rPr>
              <a:t>学习本身就是一个不断提高自己、不断完善自己知识的过程，圣人都说“三人行，则必有我师”，况且还在求学中的学生。家长要提醒和鼓励孩子不仅要不耻下问，而且还要不羞与上问。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七</a:t>
            </a:r>
            <a:r>
              <a:rPr b="0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. </a:t>
            </a:r>
            <a:r>
              <a:rPr b="0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有错也不改</a:t>
            </a:r>
            <a:r>
              <a:rPr b="0" lang="zh-CN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楷体"/>
              </a:rPr>
              <a:t>作业本发到手里，虽然上面有许多老师的订正，可很少往心里去；测验题和考试卷基本都是只看看分数便扔到一边，从不认真分析原因、检查和修改错误。　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楷体"/>
              </a:rPr>
              <a:t>学习是一个积累知识的过程，同时也是一个补漏洞的过程。一门课程，你的知识漏洞越少，说明你学得越好，考试时的成绩也会越高，那些考试时出错的地方往往是你的知识漏洞最大的地方。整理一个“错题集”，每次作业、测验和考试之后，将其中做错的题目都记录下来，这些很可能就是你的知识漏洞，经常看看这些题目，时间长了漏洞就会补上。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华文楷体"/>
              </a:rPr>
              <a:t>　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八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. 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课前不预习</a:t>
            </a:r>
            <a:r>
              <a:rPr b="0" lang="zh-CN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华文楷体"/>
              </a:rPr>
              <a:t>即使老师有要求，也很少预习第二天要学的内容，上课只带了一双耳朵，连最简单的东西都要等着老师告诉他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华文楷体"/>
              </a:rPr>
              <a:t>预习历来是教师对学生学习的一个重要要求，学生在上课前没有预习，听课时对老师所讲内容的理解和把握会大打折扣。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九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. 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上课注意力不集中</a:t>
            </a:r>
            <a:r>
              <a:rPr b="0" lang="zh-CN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课堂上思想开小差、易分神、小动作多、坐不住、爱说话，快到下课时就听更不进去了，心思早已在课后的娱乐之中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课堂</a:t>
            </a: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45</a:t>
            </a: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分钟对学生的学习至关重要，老师是学习的指路人，如果课堂学习的重点、难点搞不明白，课下他花几倍的时间都不一定能补上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十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. 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不复习就做作业</a:t>
            </a:r>
            <a:r>
              <a:rPr b="0" lang="zh-CN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华文楷体"/>
              </a:rPr>
              <a:t>做作业前不看书，不看参考资料，不先消化和理解所学的内容，作业拿过来就做，做完了万事大吉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华文楷体"/>
              </a:rPr>
              <a:t>作业是每个学生必须要独立完成的任务，它的目的是要让学生正确地理解、熟练地记忆所学的生词、语法、定义、定理和公式等，是要让学生更好地巩固所学的知识。如果不求甚解地完成了作业，根本就起不到这些作用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Tahoma"/>
              </a:rPr>
              <a:t>影响学生学习的十大坏习惯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240" y="2819160"/>
            <a:ext cx="42670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一</a:t>
            </a: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. </a:t>
            </a: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学习无计划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二</a:t>
            </a: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. </a:t>
            </a: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学习不定时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三</a:t>
            </a: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. </a:t>
            </a: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学习不定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四</a:t>
            </a: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. </a:t>
            </a: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学习马马虎虎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五</a:t>
            </a: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. </a:t>
            </a: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学习时一心二用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343040" y="274320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六</a:t>
            </a: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. </a:t>
            </a: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不懂的东西也不问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七</a:t>
            </a:r>
            <a:r>
              <a:rPr b="0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. </a:t>
            </a:r>
            <a:r>
              <a:rPr b="0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有错也不改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八</a:t>
            </a: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. </a:t>
            </a: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课前不预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九</a:t>
            </a: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. </a:t>
            </a: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上课注意力不集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十</a:t>
            </a: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. </a:t>
            </a: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不复习就做作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6600"/>
                </a:solidFill>
                <a:latin typeface="Tahoma"/>
              </a:rPr>
              <a:t>高中生应养成的十大学习习惯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华文楷体"/>
              </a:rPr>
              <a:t>预习、听课、复习、作业、笔记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楷体"/>
              </a:rPr>
              <a:t>等等，是必不可少的学习环节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华文楷体"/>
              </a:rPr>
              <a:t>培养良好的学习习惯，按部就班地跟着课程进度学习</a:t>
            </a:r>
            <a:r>
              <a:rPr b="0" lang="zh-CN" sz="1600" spc="-1" strike="noStrike">
                <a:solidFill>
                  <a:srgbClr val="ffffff"/>
                </a:solidFill>
                <a:latin typeface="Tahoma"/>
                <a:ea typeface="华文楷体"/>
              </a:rPr>
              <a:t>。</a:t>
            </a:r>
            <a:r>
              <a:rPr b="0" lang="zh-CN" sz="16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ahoma"/>
              </a:rPr>
              <a:t>1</a:t>
            </a:r>
            <a:r>
              <a:rPr b="1" lang="zh-CN" sz="4400" spc="-1" strike="noStrike">
                <a:solidFill>
                  <a:srgbClr val="ffff00"/>
                </a:solidFill>
                <a:latin typeface="Tahoma"/>
              </a:rPr>
              <a:t>、认真预习的习惯</a:t>
            </a:r>
            <a:r>
              <a:rPr b="0" lang="zh-CN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课前预习可以扫除课堂学习的知识障碍，提高听课效果；还能够复习、巩固已学的知识，最重要的是能发展学生的自学能力，减少对老师的依赖，增强独立性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预习可以加强记课堂笔记的针对性，改变学习的被动局面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预习要做到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1.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了解教材的大概内容与前面已学的知识框架；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2.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找出本章或本课内容与前面已学知识的联系，找出所需的旧知识，并补习此时的知识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3.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找出本课的难点和重点（作为听课的重点）；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4.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对重点问题和自己不理解的问题，用笔划或记入预习笔记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ahoma"/>
              </a:rPr>
              <a:t>　</a:t>
            </a:r>
            <a:r>
              <a:rPr b="1" lang="zh-CN" sz="4400" spc="-1" strike="noStrike">
                <a:solidFill>
                  <a:srgbClr val="ffff00"/>
                </a:solidFill>
                <a:latin typeface="Tahoma"/>
              </a:rPr>
              <a:t>2</a:t>
            </a:r>
            <a:r>
              <a:rPr b="1" lang="zh-CN" sz="4400" spc="-1" strike="noStrike">
                <a:solidFill>
                  <a:srgbClr val="ffff00"/>
                </a:solidFill>
                <a:latin typeface="Tahoma"/>
              </a:rPr>
              <a:t>、专心听课的习惯</a:t>
            </a:r>
            <a:r>
              <a:rPr b="0" lang="zh-CN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华文楷体"/>
              </a:rPr>
              <a:t>在每节课前，自觉要求自己“必须当堂掌握”。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华文楷体"/>
              </a:rPr>
              <a:t>　　集中注意力听课是非常重要的，上课听讲一定要理清思路。要把老师在讲课时运用的思维形式、思维规律和思维方法理解清楚。目的是向老师学习如何科学地思考问题，以便使自己思维能力的发展建立在科学的基础上，使知识的领会进入更高级的境界。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ahoma"/>
              </a:rPr>
              <a:t>3</a:t>
            </a:r>
            <a:r>
              <a:rPr b="1" lang="zh-CN" sz="4400" spc="-1" strike="noStrike">
                <a:solidFill>
                  <a:srgbClr val="ffff00"/>
                </a:solidFill>
                <a:latin typeface="Tahoma"/>
              </a:rPr>
              <a:t>、及时复习的习惯</a:t>
            </a:r>
            <a:r>
              <a:rPr b="0" lang="zh-CN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楷体"/>
                <a:ea typeface="华文楷体"/>
              </a:rPr>
              <a:t>及时复习的优点在于可加深和巩固对学习内容的理解，防止通常在学习后发生的急速遗忘。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ffcc66"/>
                </a:solidFill>
                <a:latin typeface="黑体"/>
                <a:ea typeface="黑体"/>
              </a:rPr>
              <a:t>、要有强烈的学习兴趣</a:t>
            </a:r>
            <a:r>
              <a:rPr b="0" lang="zh-CN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兴趣是最好的老师，它能激起你强烈的求知欲，鼓励你不断探索。同学们要转变传统的观念，以学为乐，而不能把学习当成苦差使，要不断地向自己的目标发出挑战。在学习中找到乐趣，在参与中享受一种成就感，兴趣就建立起来了。这样学习就由被动变成了主动，学习效率就会大大提高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ahoma"/>
              </a:rPr>
              <a:t>　</a:t>
            </a:r>
            <a:r>
              <a:rPr b="1" lang="zh-CN" sz="4400" spc="-1" strike="noStrike">
                <a:solidFill>
                  <a:srgbClr val="ffff00"/>
                </a:solidFill>
                <a:latin typeface="Tahoma"/>
              </a:rPr>
              <a:t>4</a:t>
            </a:r>
            <a:r>
              <a:rPr b="1" lang="zh-CN" sz="4400" spc="-1" strike="noStrike">
                <a:solidFill>
                  <a:srgbClr val="ffff00"/>
                </a:solidFill>
                <a:latin typeface="Tahoma"/>
              </a:rPr>
              <a:t>、独立完成作业的习惯</a:t>
            </a:r>
            <a:r>
              <a:rPr b="0" lang="zh-CN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华文楷体"/>
                <a:ea typeface="华文楷体"/>
              </a:rPr>
              <a:t>做作业是为了及时检查学习的效果</a:t>
            </a:r>
            <a:r>
              <a:rPr b="1" lang="zh-CN" sz="2000" spc="-1" strike="noStrike">
                <a:solidFill>
                  <a:srgbClr val="ffffff"/>
                </a:solidFill>
                <a:latin typeface="华文楷体"/>
                <a:ea typeface="华文楷体"/>
              </a:rPr>
              <a:t>，经过预习、上课、课后复习，知识究竟有没有领会，有没有记住，记到什么程度，知识能否应用，应用的能力有多强，这些学习效果问题，</a:t>
            </a:r>
            <a:r>
              <a:rPr b="1" lang="zh-CN" sz="2000" spc="-1" strike="noStrike">
                <a:solidFill>
                  <a:srgbClr val="ffff00"/>
                </a:solidFill>
                <a:latin typeface="华文楷体"/>
                <a:ea typeface="华文楷体"/>
              </a:rPr>
              <a:t>单凭自我感受是不准确的</a:t>
            </a:r>
            <a:r>
              <a:rPr b="1" lang="zh-CN" sz="20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。真正懂没懂，记住没记住，会不会应用，要在做作业时通过对知识的应用才能得到及时的检验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楷体"/>
                <a:ea typeface="华文楷体"/>
              </a:rPr>
              <a:t>做作业可以</a:t>
            </a:r>
            <a:r>
              <a:rPr b="1" lang="zh-CN" sz="2000" spc="-1" strike="noStrike">
                <a:solidFill>
                  <a:srgbClr val="ffff00"/>
                </a:solidFill>
                <a:latin typeface="华文楷体"/>
                <a:ea typeface="华文楷体"/>
              </a:rPr>
              <a:t>加 深对知识的理解和记忆</a:t>
            </a:r>
            <a:r>
              <a:rPr b="1" lang="zh-CN" sz="2000" spc="-1" strike="noStrike">
                <a:solidFill>
                  <a:srgbClr val="ffffff"/>
                </a:solidFill>
                <a:latin typeface="华文楷体"/>
                <a:ea typeface="华文楷体"/>
              </a:rPr>
              <a:t>；实际上，不少学生正是通过做作业，把容易混淆的概念区别开来，对事物之间的关系了解得更清楚，公式的变换更灵活。可以说做作业促进 了知识的“消化”过程，使知识的掌握进入到应用的高级阶段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楷体"/>
                <a:ea typeface="华文楷体"/>
              </a:rPr>
              <a:t>做作业可以</a:t>
            </a:r>
            <a:r>
              <a:rPr b="1" lang="zh-CN" sz="2000" spc="-1" strike="noStrike">
                <a:solidFill>
                  <a:srgbClr val="ffff00"/>
                </a:solidFill>
                <a:latin typeface="华文楷体"/>
                <a:ea typeface="华文楷体"/>
              </a:rPr>
              <a:t>提高思维能力</a:t>
            </a:r>
            <a:r>
              <a:rPr b="1" lang="zh-CN" sz="2000" spc="-1" strike="noStrike">
                <a:solidFill>
                  <a:srgbClr val="ffffff"/>
                </a:solidFill>
                <a:latin typeface="华文楷体"/>
                <a:ea typeface="华文楷体"/>
              </a:rPr>
              <a:t>；面对作业中出现的问题，就会引起积极的思考，在分析和解决问题的过程中，不仅使新学的知识得到了应用，面且得到了“思维的锻炼”，使思维能力在解答作业问题的过程中，迅速得到提高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楷体"/>
                <a:ea typeface="华文楷体"/>
              </a:rPr>
              <a:t>做作业可以</a:t>
            </a:r>
            <a:r>
              <a:rPr b="1" lang="zh-CN" sz="2000" spc="-1" strike="noStrike">
                <a:solidFill>
                  <a:srgbClr val="ffff00"/>
                </a:solidFill>
                <a:latin typeface="华文楷体"/>
                <a:ea typeface="华文楷体"/>
              </a:rPr>
              <a:t>为复习积累资料</a:t>
            </a:r>
            <a:r>
              <a:rPr b="1" lang="zh-CN" sz="2000" spc="-1" strike="noStrike">
                <a:solidFill>
                  <a:srgbClr val="ffffff"/>
                </a:solidFill>
                <a:latin typeface="华文楷体"/>
                <a:ea typeface="华文楷体"/>
              </a:rPr>
              <a:t>；作业题一般都 是经过精选的，有很强的代表性、典型性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楷体"/>
                <a:ea typeface="华文楷体"/>
              </a:rPr>
              <a:t>因此就是做过的习题也不应一扔了事，而应当定期进行分类整理，作为复习时的参考资料。 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华文楷体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ahoma"/>
              </a:rPr>
              <a:t>5</a:t>
            </a:r>
            <a:r>
              <a:rPr b="1" lang="zh-CN" sz="4400" spc="-1" strike="noStrike">
                <a:solidFill>
                  <a:srgbClr val="ffff00"/>
                </a:solidFill>
                <a:latin typeface="Tahoma"/>
              </a:rPr>
              <a:t>、练后反思的习惯</a:t>
            </a:r>
            <a:r>
              <a:rPr b="0" lang="zh-CN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楷体"/>
                <a:ea typeface="华文楷体"/>
              </a:rPr>
              <a:t>在读书和学习过程中，尤其是复习备考过程中，每个同学都进行过强度较大的练习，但做完题目并非大功告成，重要的在于</a:t>
            </a:r>
            <a:r>
              <a:rPr b="1" lang="zh-CN" sz="2400" spc="-1" strike="noStrike">
                <a:solidFill>
                  <a:srgbClr val="ffff00"/>
                </a:solidFill>
                <a:latin typeface="华文楷体"/>
                <a:ea typeface="华文楷体"/>
              </a:rPr>
              <a:t>将知识引申、扩展、深化</a:t>
            </a:r>
            <a:r>
              <a:rPr b="1" lang="zh-CN" sz="2400" spc="-1" strike="noStrike">
                <a:solidFill>
                  <a:srgbClr val="ffffff"/>
                </a:solidFill>
                <a:latin typeface="华文楷体"/>
                <a:ea typeface="华文楷体"/>
              </a:rPr>
              <a:t>，因 此，反思是解题之后的重要环节。一般说来，习题做完之后，要从五个层次反思：</a:t>
            </a:r>
            <a:r>
              <a:rPr b="1" lang="zh-CN" sz="2400" spc="-1" strike="noStrike">
                <a:solidFill>
                  <a:srgbClr val="ffff00"/>
                </a:solidFill>
                <a:latin typeface="华文楷体"/>
                <a:ea typeface="华文楷体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华文楷体"/>
                <a:ea typeface="华文楷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华文楷体"/>
                <a:ea typeface="华文楷体"/>
              </a:rPr>
              <a:t>怎样做出来的？想解题采用的方法；</a:t>
            </a:r>
            <a:r>
              <a:rPr b="1" lang="zh-CN" sz="2400" spc="-1" strike="noStrike">
                <a:solidFill>
                  <a:srgbClr val="ffff00"/>
                </a:solidFill>
                <a:latin typeface="华文楷体"/>
                <a:ea typeface="华文楷体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华文楷体"/>
                <a:ea typeface="华文楷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华文楷体"/>
                <a:ea typeface="华文楷体"/>
              </a:rPr>
              <a:t>为什么这样做？想解题依据的原理； </a:t>
            </a:r>
            <a:r>
              <a:rPr b="1" lang="zh-CN" sz="2400" spc="-1" strike="noStrike">
                <a:solidFill>
                  <a:srgbClr val="ffff00"/>
                </a:solidFill>
                <a:latin typeface="华文楷体"/>
                <a:ea typeface="华文楷体"/>
              </a:rPr>
              <a:t>3</a:t>
            </a:r>
            <a:r>
              <a:rPr b="1" lang="zh-CN" sz="2400" spc="-1" strike="noStrike">
                <a:solidFill>
                  <a:srgbClr val="ffff00"/>
                </a:solidFill>
                <a:latin typeface="华文楷体"/>
                <a:ea typeface="华文楷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华文楷体"/>
                <a:ea typeface="华文楷体"/>
              </a:rPr>
              <a:t>为什么想到这种方法？想解题的思路；</a:t>
            </a:r>
            <a:r>
              <a:rPr b="1" lang="zh-CN" sz="2400" spc="-1" strike="noStrike">
                <a:solidFill>
                  <a:srgbClr val="ffff00"/>
                </a:solidFill>
                <a:latin typeface="华文楷体"/>
                <a:ea typeface="华文楷体"/>
              </a:rPr>
              <a:t>4</a:t>
            </a:r>
            <a:r>
              <a:rPr b="1" lang="zh-CN" sz="2400" spc="-1" strike="noStrike">
                <a:solidFill>
                  <a:srgbClr val="ffff00"/>
                </a:solidFill>
                <a:latin typeface="华文楷体"/>
                <a:ea typeface="华文楷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华文楷体"/>
                <a:ea typeface="华文楷体"/>
              </a:rPr>
              <a:t>有无其它方法？哪种方法更好？想多种途径，培养求异思维；</a:t>
            </a:r>
            <a:r>
              <a:rPr b="1" lang="zh-CN" sz="2400" spc="-1" strike="noStrike">
                <a:solidFill>
                  <a:srgbClr val="ffff00"/>
                </a:solidFill>
                <a:latin typeface="华文楷体"/>
                <a:ea typeface="华文楷体"/>
              </a:rPr>
              <a:t>5</a:t>
            </a:r>
            <a:r>
              <a:rPr b="1" lang="zh-CN" sz="2400" spc="-1" strike="noStrike">
                <a:solidFill>
                  <a:srgbClr val="ffff00"/>
                </a:solidFill>
                <a:latin typeface="华文楷体"/>
                <a:ea typeface="华文楷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华文楷体"/>
                <a:ea typeface="华文楷体"/>
              </a:rPr>
              <a:t>能否变通一下而变成另一习题？想一题多变，促使 思维发散。当然，如果发生错解，更应进行反思：错解根源是什么？解答同类试题应注意哪些事项？如何克服常犯错误？“吃一堑，长一智”，不断完善自己。 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　 应当培养的优良习惯还有许多，诸如有疑必问的习惯，有错必改的习惯，动手实验习惯，查找工具书的习惯，健康上网、积极探究的习惯等等。从课堂学习的过程看，还有认真预习、专心听课、及时复习、独立完成作业、积极应考等好习惯。 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华文楷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ahoma"/>
              </a:rPr>
              <a:t>6</a:t>
            </a:r>
            <a:r>
              <a:rPr b="1" lang="zh-CN" sz="4400" spc="-1" strike="noStrike">
                <a:solidFill>
                  <a:srgbClr val="ffff00"/>
                </a:solidFill>
                <a:latin typeface="Tahoma"/>
              </a:rPr>
              <a:t>、积极应考的习惯</a:t>
            </a:r>
            <a:r>
              <a:rPr b="0" lang="zh-CN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应该如何应考呢？</a:t>
            </a:r>
            <a:r>
              <a:rPr b="1" lang="zh-CN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首先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，对参加考试要有一种积极的态度，不要给自己再施加压力。临考前，不要去想考试成败将会给自己带来什么后果，尤其不夸大考 试成败的影响，要想好万一考不好的“对策”，对自己的期望要实事求是；正确对待外来的压力。</a:t>
            </a:r>
            <a:r>
              <a:rPr b="1" lang="zh-CN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其次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，考试前要休息好。临考前要减轻学习负担，要保证充分的睡眠，要适当进行文体活动，要保证身体键康。</a:t>
            </a:r>
            <a:r>
              <a:rPr b="1" lang="zh-CN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再次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，在考试过程中，注意答卷顺序，按先易后难的答卷法，审题要认真，想不起来，先放一放，做好后要仔细检查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更正错误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ahoma"/>
              </a:rPr>
              <a:t>7</a:t>
            </a:r>
            <a:r>
              <a:rPr b="1" lang="zh-CN" sz="4400" spc="-1" strike="noStrike">
                <a:solidFill>
                  <a:srgbClr val="ffff00"/>
                </a:solidFill>
                <a:latin typeface="Tahoma"/>
              </a:rPr>
              <a:t>、阅读自学习惯</a:t>
            </a:r>
            <a:r>
              <a:rPr b="0" lang="zh-CN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自学是获取知识的主要途径。就学习过程而言，教师只是引路人，学生是学习的真正主体，学习中的大量问题，主要靠自己去解决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阅读是自学的一种主要形式，通过阅读教科书，可以独立领会知识，把握概念本质内涵，分析知识前后联系，反复推敲，理解教材，深化知识，形成能力。学习层次越高，自学的意义越重要，目前我国的高考为选拔有学习潜能的学生，对考生的自学能力有较高的要求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ahoma"/>
              </a:rPr>
              <a:t>8</a:t>
            </a:r>
            <a:r>
              <a:rPr b="1" lang="zh-CN" sz="4400" spc="-1" strike="noStrike">
                <a:solidFill>
                  <a:srgbClr val="ffff00"/>
                </a:solidFill>
                <a:latin typeface="Tahoma"/>
              </a:rPr>
              <a:t>、观察的习惯</a:t>
            </a:r>
            <a:r>
              <a:rPr b="0" lang="zh-CN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学会观察，逐步养成观察意识，学会恰当的观察方法，养成良好的观察习惯，培养敏锐的观察能力。“观察”这两个字有两层意思，“观”是看的意思，“察” 是想的意思，看了不想，不是真正的观察，对认识客观事物毫无意义。要做到观察和思考有机结合，通过大脑进行信息加工，总结出事物的一般规律和特征。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ahoma"/>
              </a:rPr>
              <a:t>9</a:t>
            </a:r>
            <a:r>
              <a:rPr b="1" lang="zh-CN" sz="4400" spc="-1" strike="noStrike">
                <a:solidFill>
                  <a:srgbClr val="ffff00"/>
                </a:solidFill>
                <a:latin typeface="Tahoma"/>
              </a:rPr>
              <a:t>、切磋琢磨的习惯</a:t>
            </a:r>
            <a:r>
              <a:rPr b="0" lang="zh-CN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华文楷体"/>
              </a:rPr>
              <a:t>同学之间的学习交流和思想交流是十分重要的，遇到问题要互帮互学，展开讨论。每一个人都必须努力吸取别人的优点，弥补自己的不足，像蜜蜂似的，不断吸取群芳精华，经过反复加工，酿造知识蜂蜜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ahoma"/>
              </a:rPr>
              <a:t>10</a:t>
            </a:r>
            <a:r>
              <a:rPr b="1" lang="zh-CN" sz="4400" spc="-1" strike="noStrike">
                <a:solidFill>
                  <a:srgbClr val="ffff00"/>
                </a:solidFill>
                <a:latin typeface="Tahoma"/>
              </a:rPr>
              <a:t>、总结归纳的习惯</a:t>
            </a:r>
            <a:r>
              <a:rPr b="0" lang="zh-CN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每章每节的知识是分散的、孤立的，要想形成知识体系，课后必须有小结。对所学知识进行概括，抓住应掌握的重点和关键。对比理解易混淆的概念。每学习一个专题，要把分散在各章中的知识点连成线、辅以面、结成网，使学到的知识系统化、规律化、结构化，这样运用起来才能联想畅通，思维活跃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-360" y="2819520"/>
            <a:ext cx="4876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、认真预习的习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、专心听课的习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3</a:t>
            </a: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、及时复习的习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4</a:t>
            </a: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、独立完成作业的习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5</a:t>
            </a: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、练后反思的习惯</a:t>
            </a: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48320" y="2743200"/>
            <a:ext cx="4495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6</a:t>
            </a: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、积极应考的习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7</a:t>
            </a: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、阅读自学习惯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8</a:t>
            </a: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、观察的习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9</a:t>
            </a: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、切磋琢磨的习惯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10</a:t>
            </a: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、总结归纳的习惯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6600"/>
                </a:solidFill>
                <a:latin typeface="Tahoma"/>
              </a:rPr>
              <a:t>高中生应养成的十大学习习惯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黑体"/>
                <a:ea typeface="黑体"/>
              </a:rPr>
              <a:t>3</a:t>
            </a:r>
            <a:r>
              <a:rPr b="1" lang="zh-CN" sz="4400" spc="-1" strike="noStrike">
                <a:solidFill>
                  <a:srgbClr val="ffcc66"/>
                </a:solidFill>
                <a:latin typeface="黑体"/>
                <a:ea typeface="黑体"/>
              </a:rPr>
              <a:t>、要有明确的目标计划</a:t>
            </a:r>
            <a:r>
              <a:rPr b="0" lang="zh-CN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同学们要重视学习的过程，制定明确的奋斗目标，拟订切实可行的计划，采取行之有效的措施，最后要落实行动，学会总结。在这个过程中，一定要端正学习态度，使自己真正成为学习的主人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黑体"/>
                <a:ea typeface="黑体"/>
              </a:rPr>
              <a:t>4</a:t>
            </a:r>
            <a:r>
              <a:rPr b="1" lang="zh-CN" sz="4400" spc="-1" strike="noStrike">
                <a:solidFill>
                  <a:srgbClr val="ffcc66"/>
                </a:solidFill>
                <a:latin typeface="黑体"/>
                <a:ea typeface="黑体"/>
              </a:rPr>
              <a:t>、勤奋刻苦，善于思考</a:t>
            </a:r>
            <a:r>
              <a:rPr b="0" lang="zh-CN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学习成绩的取得是靠勤奋努力得来的，古今中外无数成功之士无一不是如此。例如，“头悬梁”，“锥刺骨”；“书山有路勤为径，学海无涯苦作舟”，这些故事和名言都是说明这个道理。此外，还要善于独立思考，在学习之中独立思考非常重要，这是一种主动学习的态度。有道是，“学而不思则罔”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黑体"/>
                <a:ea typeface="黑体"/>
              </a:rPr>
              <a:t>5</a:t>
            </a:r>
            <a:r>
              <a:rPr b="1" lang="zh-CN" sz="4400" spc="-1" strike="noStrike">
                <a:solidFill>
                  <a:srgbClr val="ffcc66"/>
                </a:solidFill>
                <a:latin typeface="黑体"/>
                <a:ea typeface="黑体"/>
              </a:rPr>
              <a:t>、有“舍我其谁”的必胜信心</a:t>
            </a:r>
            <a:r>
              <a:rPr b="0" lang="zh-CN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自信是成功的第一要决，每个人无论做什么事首先要对自己充满信心，信心能产生动力，能鼓励你战胜困难，勇往直前。在学习中要有舍我其谁的霸气，相信自己一定能够成功，你才会对学习充满兴趣，学起来才有干劲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黑体"/>
                <a:ea typeface="黑体"/>
              </a:rPr>
              <a:t>6</a:t>
            </a:r>
            <a:r>
              <a:rPr b="1" lang="zh-CN" sz="4400" spc="-1" strike="noStrike">
                <a:solidFill>
                  <a:srgbClr val="ffcc66"/>
                </a:solidFill>
                <a:latin typeface="黑体"/>
                <a:ea typeface="黑体"/>
              </a:rPr>
              <a:t>、认真领悟老师和父母的话</a:t>
            </a:r>
            <a:r>
              <a:rPr b="0" lang="zh-CN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老师和父母是你人生路上的重要指南，他们把自己的经验教训传授给你，能使你少走弯路。同时，他们的有些话能给你以鼓励，使你充满信心。用自己的行动去践行老师和父母对你的指导，这样能做到事半功倍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cc66"/>
                </a:solidFill>
                <a:latin typeface="黑体"/>
                <a:ea typeface="黑体"/>
              </a:rPr>
              <a:t>、善于向老师学习和同学们交流</a:t>
            </a:r>
            <a:r>
              <a:rPr b="0" lang="zh-CN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作为学生要会跟着老师的节奏学习，尤其在课堂上随着老师的思路走，你会产生学习的快乐，提高学习兴趣，而且学习效率也高。与同学交流能使自己溶入学习这个过程中，使之成为主动参与，并在参与中吸收他人的长处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黑体"/>
                <a:ea typeface="黑体"/>
              </a:rPr>
              <a:t>8</a:t>
            </a:r>
            <a:r>
              <a:rPr b="1" lang="zh-CN" sz="4400" spc="-1" strike="noStrike">
                <a:solidFill>
                  <a:srgbClr val="ffcc66"/>
                </a:solidFill>
                <a:latin typeface="黑体"/>
                <a:ea typeface="黑体"/>
              </a:rPr>
              <a:t>、有稳定并善于调整的心态</a:t>
            </a:r>
            <a:r>
              <a:rPr b="0" lang="zh-CN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一个人的思想情绪、心理素质，对学习有很大的影响，良好的心态往往产生积极乐观的情绪，信心大增。相反，不稳定的情绪会引起心烦意乱，失去兴趣，直接影响学习的效果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4:26:35Z</dcterms:modified>
  <cp:revision>3</cp:revision>
  <dc:subject>主题班会课件(分28大类): http://shop62905894.taobao.com</dc:subject>
  <dc:title>主题班会课件(分28大类): http://shop62905894.taobao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